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804DE-A53A-43A5-8634-82D614A3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A1E5-44F3-4C2C-ADD2-67BC0429E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EF01A-BBE2-46F4-B5A9-DDA4E6B8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DE262-40E6-4653-986E-B6EE8135A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29CEA-BE2C-46C6-B10E-2D083A56B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3EF59-E8FC-458E-B5BE-15EDCDFB6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E1602-5123-4A9D-BD27-18C2B2D7B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648E-300B-46EE-8CF5-439DDD730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14659-5618-4275-9964-867916813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283B5-064F-4E82-A422-802EB9DD4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7E031-720B-4C0F-A485-9215568A6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7E7BA-9228-438D-B055-194977D9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60B95-6591-4CB5-A287-49B62F32F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1E61-C77F-49B0-A926-70991B72B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92C1-5466-4DE7-B00E-139D6C32E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91D98-9D34-4796-9250-6FE53B66F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5927A-D4C0-4DAC-9387-299279E98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7A87E-B748-48F7-9AD2-4698B1B1B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6817-264D-493D-91BE-43C77A4C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3250-D5EC-4609-A1AD-3B9A0AA0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25404-6C52-4B97-831D-9783F8DA1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ABC6-B96D-4F61-B06E-CAAACB68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D5B8-A4C6-499B-975A-30B402A0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B5F1-B75A-445B-8BBD-7E3C73017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9441-A0C7-4172-AF09-9BCA2D59C57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35E-22AA-4BE0-9885-E72C5563913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Reaction Time</a:t>
            </a:r>
            <a:endParaRPr b="0" lang="en-US" sz="4400" spc="-1" strike="noStrike">
              <a:solidFill>
                <a:srgbClr val="ffff99"/>
              </a:solidFill>
              <a:latin typeface="Arial"/>
            </a:endParaRPr>
          </a:p>
        </p:txBody>
      </p:sp>
      <p:sp>
        <p:nvSpPr>
          <p:cNvPr id="161"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Result</a:t>
            </a:r>
            <a:endParaRPr b="0" lang="en-US" sz="4400" spc="-1" strike="noStrike">
              <a:solidFill>
                <a:srgbClr val="ffff99"/>
              </a:solidFill>
              <a:latin typeface="Arial"/>
            </a:endParaRPr>
          </a:p>
        </p:txBody>
      </p:sp>
      <p:graphicFrame>
        <p:nvGraphicFramePr>
          <p:cNvPr id="179" name=""/>
          <p:cNvGraphicFramePr/>
          <p:nvPr/>
        </p:nvGraphicFramePr>
        <p:xfrm>
          <a:off x="1981080" y="1752480"/>
          <a:ext cx="5639040" cy="4311720"/>
        </p:xfrm>
        <a:graphic>
          <a:graphicData uri="http://schemas.openxmlformats.org/presentationml/2006/ole">
            <p:oleObj r:id="rId1" spid="">
              <p:embed/>
              <p:pic>
                <p:nvPicPr>
                  <p:cNvPr id="180" name="" descr=""/>
                  <p:cNvPicPr/>
                  <p:nvPr/>
                </p:nvPicPr>
                <p:blipFill>
                  <a:blip r:embed="rId2"/>
                  <a:stretch/>
                </p:blipFill>
                <p:spPr>
                  <a:xfrm>
                    <a:off x="1981080" y="1752480"/>
                    <a:ext cx="5639040" cy="431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Possible cause of error </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Some of the thing that could gone wrong was my little brother didn’t understand that he needed to try to hit the ball when it comes to him.</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nstead he was just swinging away like he was trying to hit a be aw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Acknowledgments </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 would like to thank my family for helping with my science fair.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And my dad who actually let me use the Wii.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a:rPr>
              <a:t>Problem </a:t>
            </a:r>
            <a:br>
              <a:rPr sz="4000"/>
            </a:br>
            <a:endParaRPr b="0" lang="en-US" sz="40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6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ccff"/>
                </a:solidFill>
                <a:latin typeface="Verdana"/>
              </a:rPr>
              <a:t>Does age have an effect on how fast your reaction time is?</a:t>
            </a: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Introduction</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When was the last time you cheeked how fast your reaction was? If you want to know, than just do this stuff.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Background info</a:t>
            </a:r>
            <a:endParaRPr b="0" lang="en-US" sz="4400" spc="-1" strike="noStrike">
              <a:solidFill>
                <a:srgbClr val="ffff99"/>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he reason for this experiment is because I have always wondered if my family members have faster reaction time because of age. I have tried to test it before but didn’t know how. I decided that I could use our Wii Sports to help test my problem.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Hypothesis </a:t>
            </a:r>
            <a:endParaRPr b="0" lang="en-US" sz="44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 predict that my older sister (who is 16) will have the best reaction time because teenagers have lots of energy and you can think fast when you have lots of energy. After you’re an adult, the older you get the slower you get according to most people I know.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Materials </a:t>
            </a:r>
            <a:endParaRPr b="0" lang="en-US" sz="44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Wii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Wii Sport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Paper/pencil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All of my family (8 people total)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Procedure</a:t>
            </a:r>
            <a:endParaRPr b="0" lang="en-US" sz="44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gather all stuff needed to do project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explain what they are doing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est each family member 3 times separately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write everybody’s time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Independent variable </a:t>
            </a:r>
            <a:endParaRPr b="0" lang="en-US" sz="44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f age has an effect on your reaction ti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Dependent variable </a:t>
            </a: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he time of the reac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6Z</dcterms:created>
  <dc:creator>USD376</dc:creator>
  <dc:description/>
  <dc:language>en-US</dc:language>
  <cp:lastModifiedBy>USD376</cp:lastModifiedBy>
  <dcterms:modified xsi:type="dcterms:W3CDTF">2010-03-02T17:04:47Z</dcterms:modified>
  <cp:revision>7</cp:revision>
  <dc:subject/>
  <dc:title>Reaction Time</dc:title>
</cp:coreProperties>
</file>